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B01F-7DE9-4121-A4A3-083BE9586EC1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5D6A-1BA5-42F5-99ED-158A1C46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7E5-B89B-4A61-81DE-3E8A52F0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3AA0-58F3-4E48-A76D-F4120DE5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0EF-52FE-41DB-8110-C112D845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351-F1B2-4474-9233-3BD8A91E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29DA-2BAB-473E-9652-C9B33B76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C11-9C02-4983-924B-0640DD90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ADE-F92A-45FC-AC27-41822EC3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C2B-6A42-4AF6-914C-79C88AF9F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2B9-82CC-4E22-A528-3770663A4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814A-EA90-4B1C-BCA6-5C7CB02E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E781-0058-4F87-9553-0AE45487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0AF4-6D47-4C2E-9447-CAF46982E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1B83-FAD4-4792-BC0A-E409031A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EEA4-4FFC-4298-BCF5-019148AD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8DD-2553-484E-9B44-41700D20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349-8D36-4D9E-A083-69087039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6474-5263-41BB-97F4-FC9F0B92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F35-228C-4B7E-A98A-E48B62FD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2E61-4E66-4FB8-BE04-FDAA178C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728-AA8A-45F7-9BC3-4E6848B5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C51-E5FA-4302-BE14-FE9EB826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3A5-DF66-4ED9-8B9B-1A873BA8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11D-BE31-47D9-BD44-D73377379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384-9465-49F5-BC57-6B9043365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5EB3-F6BB-48FF-B1B8-3EB82DDC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2CA-68C3-4310-892D-754C0D9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2727-9D6C-4A24-97DE-42606B6B6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052-78CF-4319-B253-E5C0BC0F1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551-B524-472A-8B75-A9DCDBB5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5357-0BB3-4681-92CA-6B455015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4E1-9258-4EB7-8A80-7230E220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D8D-CD71-4BDD-82F5-7FB6B8BA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9925-D8C7-4CDC-BA37-D2BAD9B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A9D4-DC38-4AFD-BA53-E7AA147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ACFE8-5D14-41AF-B5BA-4527FD0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24194-A3D3-42B1-9856-E27AED6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70A88-EB70-423C-9647-F8D84D6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6B407-1D70-4E31-864C-21E7D2A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847C8-A31F-4A2C-A212-A70729AB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97B5-A20E-4E73-A741-D0104AA5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67593-27BD-4228-A9F9-E1EE51BB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9385D-3111-46FE-8B72-9C06CA30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AD0-FD04-4666-9808-6CF046D7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C2DE-699C-43FA-B6E6-2E09DA6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3B94-DD3F-432A-9AB6-278B10C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B19A-FC38-4D96-B77F-815CD75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142FB-D253-4B6D-9744-E168EF2C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B9EB-8529-4FFA-97C3-CA68E37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02A76-27DF-425D-802F-EC4E3FA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F50A-FFD0-4136-AFFF-106E79D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FCA83-0297-4C13-B7C5-629EA46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DFA2C-2783-4AD9-8B17-41608277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D10A-7208-4033-AD06-8183652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3F9-DBAE-456D-8A3B-159C8414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0E9EF-DECD-405F-A68C-7053F3BB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48F41-E03D-4D54-9BD3-B7C6FF04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FE6EF-7EB4-456F-8AF8-5A40C89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E03C-75D4-445D-9D3B-B9E1255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12CE-E9D9-4AF2-965A-717FCE37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01479-B81B-4A5E-BC63-F2BC2E9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FD20F-27CD-4DF0-A27B-8021D23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EC2B9-AD88-44E3-A24F-2B70A1C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700C5-7B73-40AE-9B89-A67EE27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197D9-399D-43FB-BD88-0C3CD5E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3E68-FF3A-489A-9DE9-1D480FD5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6BC6-749E-4378-B75D-A7DB8FE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A4F0-717A-4B6D-B260-BDBD659A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84B5C-06EF-4A72-B659-2D72525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FB4C9-B50E-4268-8C2A-18E0D0C3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D9F1C-66B7-42F9-9836-1DA9CD9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778C1-3BBE-4D9D-9E5C-D5681AF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1EF2B-E35F-4E4C-AF66-BFFFAAD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B06C9-21F5-4F2D-BBB7-2E6C1EEA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98770-209D-46FB-8BA4-C4C3AB9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F27E7-B6D1-4A4D-A79D-94244A7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0B54-528C-47AF-B00E-B87E26CC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119D9-5123-40CC-9071-9A20B50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ED2C9-5AAA-4449-B15A-1847DF4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3E8D9-59A4-401D-A904-E0362C0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CA9A-F1DF-4ACF-A050-5849D352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6121-B701-4512-A6F7-171CA489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45B86D-2878-4DF4-B27F-9EEF5F2C1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441FBB-4C4F-4F6F-B1BC-3B2BF63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306BF-4D40-4FA6-BDF2-30C9FA4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341072-DBF1-40E5-A46C-AABDD45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98038F-AE5E-48F9-A9F5-A83B4943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BE0-9459-47CB-BCED-F0740ED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B9E3E-A8AA-462E-9A19-EE3AA19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695116-6AEE-42B6-AA58-2F0AA52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8D7AC-62D7-41B3-90F1-9ED96F5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EE0A88-1B58-43D7-8759-A6FFBFA4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405AB-5744-419E-AD99-4858401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DA3B4E-154A-4EB4-9171-1250BB6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92D86-5F13-4ECF-9A66-AB8302D24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256-18EF-45DE-8C88-B9FBAC7D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ED19-B479-4603-A5D5-A911144D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626-6BF3-4C5D-873C-2ECB33B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20F3-F0F0-4130-8AC3-C70B306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1C2-CF5C-463A-8053-04DF18E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10B-9677-465D-AD03-904BC14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A30-721C-472E-ACE4-CEEA048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BB9-4B18-43FF-A828-E42CBBB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688-D33F-409A-8610-BA874533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180-DC8B-4193-AC1C-31766083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6789-A277-4541-A8C6-D60A913C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C77B-B994-4BB5-82B6-1BAEB504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201F-B52B-4BA8-AE38-0311A79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A108-280B-4916-997E-8AEF530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F430-E5C0-4C25-88D8-BD929DB1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131-1152-470B-93E2-8D754B8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BE34-6B2A-45C3-B987-018A74B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F77A-12A6-4433-A701-E883206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35CE-942A-4CDF-AEB7-9B1A984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F928-52EC-4261-9E3C-8FBEBA4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6036-5125-4494-823F-F582514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F9D2-AE42-4902-B9BB-C084C959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CCD7-5C7C-4E17-83E3-0E651491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D0E9-DDCD-41D0-B65B-1BB0B204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A537-B218-45FF-844A-EFE43A6A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270F-B496-437A-BFFC-1EE385D2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65E-54C8-4B25-B91B-2E57AE8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CCA3-D181-4A62-9155-B6169923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FBC3-71DE-495E-86D6-EF6AB1F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0BB8-9359-4033-9419-E7172FC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55FF-73CE-4E5B-81C6-32B6C36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FB53-21F0-408E-99E4-77CE8FD1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AFF5-5A84-4806-8DAF-7C9FB49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57C3-C714-41B5-8861-108DCDE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B703-87F5-4F60-BB29-039F987A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ABD1-D991-4EE0-B9D2-06DF0354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C9AD-9EB6-4FDE-B2B6-0A77C4BA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28D-1BE3-4667-B3C8-CB3D1F3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5E63-5D9D-4C2A-8036-0FA03F4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4D18-D965-4A9E-A3C1-3C24F6D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C32E-8395-4F34-966F-84E9A8E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AEAD-0BFE-446E-BF66-31FE8C1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A2FF-71B2-4B72-AF70-455BE4C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4E29-BAB9-4EEA-998B-D336D69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EEE2-3257-4701-949B-460B109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D96B-60A5-4A24-8444-7FC34DC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839D8-42FC-469B-A88B-5653331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6E58-3CE8-47A4-B370-A39A9EEB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50A-8BD4-4D43-9C48-353DDD3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E2E0-C859-47D1-96AA-9336021F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BA64-8066-4997-868F-4291D84C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840A0-0A24-4381-B041-4A9044F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1498-30F0-47A6-B8B7-06AEEC57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7CC0-5E28-43D4-AAF8-CA82016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CB38-7504-440F-A269-EA9B56E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31AE-7FBB-4E3C-BEC7-FDC19E9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1832-C6D6-4220-A9C0-B1C6CF1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5149-A7C1-4680-8A5E-1635900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0B864-839C-4472-86E2-8F6D31B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480-FC2D-47B8-A12E-64CF43D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548B-0DE9-4A98-881E-A8F9735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600B-2350-4121-8B5C-828D2AC4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F31B-589B-4C90-8669-2949D79A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75E7-D546-4735-A8A9-C2CC8B92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497AC-A78B-4FA7-916B-53B71DE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9B70-A560-460A-ADDE-32F60C8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B3AE-89C3-413D-BE23-351A474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9DC1-E192-4F44-B8B3-01C94D8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DCED9-52A0-460E-9B62-2F7741F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6684-E271-46D0-8FB6-1850FEA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DED-6F0B-4F17-927A-54AF157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3076A-8436-44F0-BF4A-51B3525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FB9E-42B1-49C1-B824-63D466D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93C6E-3EEA-4653-AE59-40E7BA29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9733-6238-4AC9-90F1-95A10986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C0C7-A82B-41CE-BF14-100E397E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FB0D-1447-4E63-B062-EEDB7839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7C88-DF04-40EE-AEC9-A74B21AF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EAE6-81FC-40BB-94A1-22C9A09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FAD3-A3DC-4B11-A57E-0BA43F9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8378-CE07-4C5E-B951-4B18451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58C-755A-4F8B-801A-3F0A10F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5847-6E10-41B5-BC19-3A824DFC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12A9-4DB4-44FE-99DC-0715FE8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CE6B-F89E-48FB-88B8-F33FE90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B9D5-3E7D-4204-BBC6-0A4037A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5167-6470-49CA-9629-688E3B7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967E9-69A0-47C1-B064-371C65DB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D1FA9-7705-49EA-A49A-D5725EE0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19559-9561-4B5F-BF83-16E574EF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05863-38BD-4503-B1A1-836412F8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FBD2C-3186-4C94-9153-48F5CB0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4E0-7E33-4A8C-9523-E720BCAA6DE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94C-266A-4F0D-80B8-7A967126069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D8B-598C-43AB-B93B-08A0C10E597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836-ED80-4C2A-8393-8F02A97E81B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06C-6543-4FBA-9CCF-A2137BD04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D97-5BC4-4C2F-9D0A-5FFB90F2BF4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603-F1B7-4F38-A5AE-99DDAAC5F76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7264-D76D-4716-BAA2-04040CA2CF1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29F3-B16C-4489-85C1-2D3CB5B5BBC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54D-DE39-4778-8E39-2A1CD2C611B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6D2-2B27-4E69-A65C-B1D17FC78C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754C-2267-4B29-B357-010AC41831C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4AAD-1A49-48E2-AD3C-CACD116B01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1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2364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6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6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7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8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8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9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9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0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0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1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2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0" name="5 - Ορθογώνιο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91280" cy="49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0"/>
            <a:ext cx="9144000" cy="6551640"/>
            <a:chOff x="0" y="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0"/>
              <a:ext cx="9144000" cy="6551640"/>
              <a:chOff x="0" y="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7128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83272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8:16:04Z</dcterms:modified>
  <cp:revision>156</cp:revision>
  <dc:subject/>
  <dc:title>Παρουσίαση του PowerPoint</dc:title>
</cp:coreProperties>
</file>